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DE1-4A58-430A-8D72-979F3774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068-7831-4B09-8F14-6FC67111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8EE-AE4B-42C4-B9F3-BFB1A487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F90-60AA-41D7-8373-D88F3A6B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4F72-A495-4305-8028-93189391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FEAC-890D-4658-A946-4FF2C6DE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736C-9C41-4948-B21D-B99B60CF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2538-39DC-4A53-AEF2-DB5035F4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B672-F2CA-4ABA-A588-7F481B6E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5813-AD56-49A0-BC58-D335F8D1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E063-6B73-4AC4-BC24-82A43703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AE40-A850-4C67-B81C-94D6E71C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85F8-1DA5-4C34-9D23-0D3180E1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050C-E5FF-4CD6-8E1B-106DCAE8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78EE-04DE-4F37-874E-E0AD3462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1A7F-677B-4C89-B5E1-519D8810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9FE4-5B22-45E5-B1D5-22C6B09B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343-0476-4730-B1C0-C05A775A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FAE-E802-4E87-A77E-DB506B43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C89-1604-48B5-957B-F1A9E620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555-D07E-4765-B6F9-C2BCDDBE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17C-0EF9-4100-9C25-5EC81CBC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A13-F46E-4AFA-BAA0-D191588C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D76-B596-42C8-8178-DD6A4E17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66680" y="1459080"/>
            <a:ext cx="8077320" cy="5398920"/>
          </a:xfrm>
          <a:prstGeom prst="rect">
            <a:avLst/>
          </a:prstGeom>
          <a:gradFill rotWithShape="0">
            <a:gsLst>
              <a:gs pos="0">
                <a:srgbClr val="1822cd"/>
              </a:gs>
              <a:gs pos="100000">
                <a:srgbClr val="0508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447920"/>
            <a:ext cx="1066680" cy="5410080"/>
          </a:xfrm>
          <a:prstGeom prst="rect">
            <a:avLst/>
          </a:prstGeom>
          <a:gradFill rotWithShape="0">
            <a:gsLst>
              <a:gs pos="0">
                <a:srgbClr val="0304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CD54-6A8B-4A30-AB70-8145A8E4C6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355680"/>
            <a:ext cx="6172200" cy="2438280"/>
            <a:chOff x="0" y="355680"/>
            <a:chExt cx="6172200" cy="2438280"/>
          </a:xfrm>
        </p:grpSpPr>
        <p:sp>
          <p:nvSpPr>
            <p:cNvPr id="6" name=""/>
            <p:cNvSpPr/>
            <p:nvPr/>
          </p:nvSpPr>
          <p:spPr>
            <a:xfrm>
              <a:off x="789120" y="114444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70a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42840" y="131112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44144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076400" y="35568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44440" y="144144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2995560"/>
            <a:ext cx="8077320" cy="3862440"/>
          </a:xfrm>
          <a:prstGeom prst="rect">
            <a:avLst/>
          </a:prstGeom>
          <a:gradFill rotWithShape="0">
            <a:gsLst>
              <a:gs pos="0">
                <a:srgbClr val="1822cd"/>
              </a:gs>
              <a:gs pos="100000">
                <a:srgbClr val="0508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95560"/>
            <a:ext cx="1066680" cy="3862440"/>
          </a:xfrm>
          <a:prstGeom prst="rect">
            <a:avLst/>
          </a:prstGeom>
          <a:gradFill rotWithShape="0">
            <a:gsLst>
              <a:gs pos="0">
                <a:srgbClr val="0304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3173-DD37-4B75-99BD-C65084AF83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1905120"/>
            <a:ext cx="6172200" cy="2438280"/>
            <a:chOff x="0" y="1905120"/>
            <a:chExt cx="6172200" cy="2438280"/>
          </a:xfrm>
        </p:grpSpPr>
        <p:sp>
          <p:nvSpPr>
            <p:cNvPr id="55" name=""/>
            <p:cNvSpPr/>
            <p:nvPr/>
          </p:nvSpPr>
          <p:spPr>
            <a:xfrm>
              <a:off x="789120" y="269388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70a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42840" y="286056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99088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76400" y="190512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4440" y="299088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Parallel Computing</a:t>
            </a:r>
            <a:br>
              <a:rPr sz="4400"/>
            </a:b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Multiprocessor Systems on Chip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Adv. Computer Arch. for Embedded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Jason Ag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Parallel Program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tal execution time can be reduced if tasks run in parall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is responsible for defining task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viding a program into task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each task must 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each task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munic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ynchroniz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3581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Parallel Programming Model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ial programs can be hard to design and debu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llel programs are even ha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s are needed so programmers can create and understand parallel progra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odel is needed that allow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ingle application to be defi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 to take advantage of parallel computing resour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ammer to reason about how the parallel program will execute, communicate, and synchroniz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 to be portable to different architectures and platfor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Parallel Programming Paradigm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a “Programming Paradigm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KA Programming Mod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ines th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bstract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hat a programmer can use when defining a solution to a probl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llel programming implies that there are concurrent oper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 what are typical concurrency abstraction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rea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munic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ared-Memor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ssage-Pa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Shared-Memory Model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address space for all tas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variable, X, is shared by multiple task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nchronization is needed in order to keep data consist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- Task A gives Task B some data through 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 B shouldn’t read X until Task A has put valid data in 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: Task B and Task A operate on the exact same piece of data, so their operations must be in syn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nchronization is done with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mapho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tex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dition Varia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29560" y="37861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Message-Passing Model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ks have their own address s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ion must be done through the passing of mess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pies data from one task to ano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chronization is handled automatically for the programm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- Task A gives Task B some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 B listens for a message from Task 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 B then operates on the data once it receives the message from Task 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 - After receiving the message Task B and Task A have independent copies of the da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omparing the Model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ed-Memory (Global address spac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-task communication is IMPLICI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y task communicates with shared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pying of data is not requir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is responsible for correctly using synchronization oper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age-Passing (Independent address space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-task communication is EXPLICI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sages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equi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t data is copi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pying data is slow --&gt; Overhea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is not responsible for synchronization operations, just for sending data to and from task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Shared-Memory Example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ing through shared d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ion of critical reg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ference can occur if protection is done incorrectly, b/c tasks are looking at the same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k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ex_lock(mutex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Task A’s Job - Modify data protected by mutex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ex_unlock(mutex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k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ex_lock(mutex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Task B’s Job - Modify data protected by mutex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ex_unlock(mutex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Shared-Memory Diagram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19320" y="1747800"/>
            <a:ext cx="77724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Message-Passing Example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ion through mess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ference cannot occur b/c each task has its own copy of the d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k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ive_message(TaskB, dataIn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Task A’s Job - dataOutput = 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dataIn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_message(TaskB, dataOut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k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ive_message(TaskA, dataIn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Task B’s Job - dataOutput = 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dataIn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_message(TaskA, dataOut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Message-Passing Diagram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19320" y="1859040"/>
            <a:ext cx="77724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Laboratory Times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lab tim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day, Wednesday-Fri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:00 AM to 1:00 P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post the lab times on the WIK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omparing the Models (Again)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ed-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dea of data “ownership” is not explic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+) Program development is simplified and can be done more quick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faces do not have to be clearly defin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-) Lack of specification (and lack of data locality) may lead to difficult code to manage and maintai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-) May be hard to figure out what the code is actually do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-memory doesn’t require cop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+) Very lightweight = Less Overhead and More Concurrenc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-) May be hard to scale - Contention for a single memor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omparing the Models (Again, 2)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age-P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 of data is explic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faces must be clearly def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+) Allows a programmer to reason about which tasks communicate and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+) Provides a specification of communication need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-) Specifications take time to develo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sage-passing requires copying of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+) Each task “owns” its own copy of the da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+) Scales fairly wel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parate memories = Less contention and More concurr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-) Message-passing may be too “heavyweight” for some app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Which Model Is Better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model has a significant advantage over the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, implementations can be better than one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ations of each of the models can use underlying hardware of a different mod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-memory interface on a machine with distributed mem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sage-passing interface on a machine that uses a shared-memory mod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Using a Programming Model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implementations of programming models are in the form of libraries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? C is popular, but has no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Programmer Interfaces (API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nterface to the functionality of the libr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forces policy while holding mechanisms abstra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applications to be port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de details of the system from the programm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ust as a HLL and a compiler hide the ISA of a CP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arallel programming library should hide the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chitecture, interconnect, memorie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Popular Librarie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red-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X Threads (Pthrea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ssage-Pa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Popular Operating Systems (OSes)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u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” Lin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edded Lin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cLin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ps POSIX calls to native eCos-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bridThreads (Hthreads) - Soon to be popul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 components are implemented in hardware for super low-overhead system servi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ps POSIX calls to OS components in HW (SWTI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a POSIX-compliant wrapper for computations in hardware (HWTI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Threads are Lightweight…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772400" cy="2438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76197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POSIX Thread API Classe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d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 directly with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ing, joining, attribut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te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for synchroniz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to “MUTually EXclude”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 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for communication between threads that use a common mut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for signaling several threads on a user-specified condi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0200" y="343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References/Source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to Parallel Computing (LLN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www.llnl.gov/computing/tutorials/parallel_comp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X Thread Programming (LLN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www.llnl.gov/computing/tutorials/pthreads/#WhyPthrea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What is parallel computing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el Computing (PC) i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ing with multiple, simultaneously-executing resour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realized through a computing platform that contains multiple CP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ten times implemented a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ntralized Parallel Comput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CPUs with a local interconnect or b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tributed Parallel Comput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computers networked togeth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Why Parallel Computing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save time (execution time)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 tasks can run concurrently instead of sequential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solve larger problem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computational resources =  solve bigger problem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makes sen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y problem domains are naturally paralleliz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- Control systems for automobi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independent tasks that require little communic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ialization of tasks would cause the system to break dow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at if the engine management system waited to execute while you tuned the radio?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Typical System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4038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itionally, parallel computing systems are composed of the follow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vidual computers with multiple CP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s of compu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binations of bo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52680" y="1676520"/>
            <a:ext cx="3141720" cy="2209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765760" y="1676520"/>
            <a:ext cx="2639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Parallel Computing Systems on Programmable Chip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itionally multiprocessor systems were expens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y processor was an atomic unit that had to be purchas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 structure and interconnect was not flexi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ft-core processors/interconnect can be us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rocessor systems can be “built” from a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y a single FPGA - but X processors can be instantia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 X is any number of processors that can fit on the target FPG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Parallel Programming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one program a parallel computing syst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itionally, programs are defined seri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-by-step, one instruction per ste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explicitly defined parallelis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llel programming involves separating independent sections of code into tas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ks are capable of running concurren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anularity of tasks is user-defin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AL - parallel portions of code can execute concurrently so overall execution time is reduc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How to describe parallelism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-level (SIM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weight - programmer/compiler handle this, no OS support need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= forAll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d/Task-level (MIM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irly lightweight - little OS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= thread_creat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-level (MIM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yweight - a lot of OS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= fork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Serial Program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56200" y="3743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4038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am is decomposed into a series of task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s can be fine-grained or coarse-grain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asks are made up of instructio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s must be executed sequentiall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tal execution time = ∑(Execution Time(Task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at if tasks are independen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y don’t we execute them in paralle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91040" y="1676520"/>
            <a:ext cx="3828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1:45:16Z</dcterms:created>
  <dc:creator>Perry Alexander</dc:creator>
  <dc:description/>
  <dc:language>en-US</dc:language>
  <cp:lastModifiedBy>Perry Alexander</cp:lastModifiedBy>
  <dcterms:modified xsi:type="dcterms:W3CDTF">2006-10-24T09:07:42Z</dcterms:modified>
  <cp:revision>116</cp:revision>
  <dc:subject/>
  <dc:title>Parallel Programming</dc:title>
</cp:coreProperties>
</file>