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B00-CE86-4638-8260-C51FAB10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D70-10F2-4BBE-80DC-E820BDD6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26B-4A1A-4559-9879-7B65015E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245-71A6-4BA0-908A-ED5ED01A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7348-FEF1-4B16-8187-344C1182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AFB4-019D-4189-BFC7-D37CDA7D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9375-6677-456D-8B49-2126EF44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85CC-98C5-4605-A57F-E6C025E8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67D2-CF6C-4BEB-AEA9-37676F17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047F-73C3-4671-B39B-8584BDDA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5409-FAA1-45AA-A54F-51C484C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448-2FA1-4A80-BE98-F6D3CCFA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D777-983A-418E-9C7E-F2F3DB1C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1C64-8076-4E3D-9D8A-E7B57322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3AB9-9CE9-44B4-BF8F-944D3EFD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6118-0310-4327-860C-0810BB8E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0EED-7F26-4A18-AF8B-02D44ED2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29D-ADB0-43D2-8EA0-2999387A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E2F-5AA5-4842-B081-CD8327C9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719-364B-4556-9455-333ED8DC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D4D-7410-4DA9-BE61-5B254F3F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FAC-1A90-498C-94CA-B7117833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261-61AF-442C-A886-1A6651FF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147-5268-4412-BF25-64F53542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6540-F0B7-482D-B096-3DE591B27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6" name="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1822cd"/>
              </a:gs>
              <a:gs pos="100000">
                <a:srgbClr val="0508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4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127D-47EF-4763-A322-C085E897C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55" name="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70a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efefe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Computing</a:t>
            </a:r>
            <a:br>
              <a:rPr sz="4400"/>
            </a:b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Multiprocessor Systems on Chip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Adv. Computer Arch. for Embedded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Jason Ag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Program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 execution time can be reduced if tasks run in parall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is responsible for defining tas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ding a program into tas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each task must 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each task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unic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ynchroniz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358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Programming Model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ial programs can be hard to design and debu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programs are even ha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s are needed so programmers can create and understand parallel progr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odel is needed that allo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ingle application to be def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 to take advantage of parallel computing resour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mer to reason about how the parallel program will execute, communicate, and synchroniz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 to be portable to different architectures and platfor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Programming Paradigm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a “Programming Paradigm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KA Programming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es th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strac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at a programmer can use when defining a solution to a probl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programming implies that there are concurrent oper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what are typical concurrency abstraction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rea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unic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ared-Memo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-Pa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Shared-Memory Model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address space for all tas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variable, X, is shared by multiple tas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chronization is needed in order to keep data consist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- Task A gives Task B some data through 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B shouldn’t read X until Task A has put valid data in 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Task B and Task A operate on the exact same piece of data, so their operations must be in syn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chronization is done wit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maph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tex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dition Varia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29560" y="37861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Message-Passing Model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s have their own address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on must be done through the passing of mess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pies data from one task to an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chronization is handled automatically for the programm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- Task A gives Task B som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B listens for a message from Task 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B then operates on the data once it receives the message from Task 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 - After receiving the message Task B and Task A have independent copies of the d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omparing the Model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d-Memory (Global address spac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-task communication is IMPLICI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task communicates with shared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ying of data is not requir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is responsible for correctly using synchronization ope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-Passing (Independent address spac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-task communication is EXPLICI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qui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t data is copi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ying data is slow --&gt; Overhea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is not responsible for synchronization operations, just for sending data to and from tas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Shared-Memory Example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ng through shared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on of critical reg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erence can occur if protection is done incorrectly, b/c tasks are looking at the sam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ex_lock(mutex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Task A’s Job - Modify data protected by mutex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ex_unlock(mutex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ex_lock(mutex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Task B’s Job - Modify data protected by mutex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ex_unlock(mutex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Shared-Memory Diagram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1747800"/>
            <a:ext cx="77724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Message-Passing Example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on through mess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ference cannot occur b/c each task has its own copy of the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ive_message(TaskB, data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Task A’s Job - dataOutput =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data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_message(TaskB, dataOut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ive_message(TaskA, data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Task B’s Job - dataOutput =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data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_message(TaskA, dataOut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Message-Passing Diagram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19320" y="1859040"/>
            <a:ext cx="77724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Laboratory Times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lab time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day, Wednesday-Frid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:00 AM to 1:00 P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post the lab times on the WIK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omparing the Models (Again)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d-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a of data “ownership” is not explic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+) Program development is simplified and can be done more quick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aces do not have to be clearly defin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) Lack of specification (and lack of data locality) may lead to difficult code to manage and mainta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) May be hard to figure out what the code is actually do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-memory doesn’t require cop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+) Very lightweight = Less Overhead and More Concurrenc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) May be hard to scale - Contention for a single memo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omparing the Models (Again, 2)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age-P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of data is explic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es must be clearly def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+) Allows a programmer to reason about which tasks communicate and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+) Provides a specification of communication nee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-) Specifications take time to develo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-passing requires copying of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+) Each task “owns” its own copy of the d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+) Scales fairly wel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parate memories = Less contention and More concurr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) Message-passing may be too “heavyweight” for some app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Which Model Is Better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model has a significant advantage over the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, implementations can be better than one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s of each of the models can use underlying hardware of a different mod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-memory interface on a machine with distributed mem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-passing interface on a machine that uses a shared-memory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Using a Programming Model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implementations of programming models are in the form of libraries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? C is popular, but has no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Programmer Interfaces (AP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terface to the functionality of the libr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forces policy while holding mechanisms abstra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applications to be por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de details of the system from the programm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st as a HLL and a compiler hide the ISA of a CP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parallel programming library should hide th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chitecture, interconnect, memori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opular Librarie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d-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X Threads (Pthrea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ssage-Pa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opular Operating Systems (OSes)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” 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edded 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c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s POSIX calls to native eCos-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bridThreads (Hthreads) - Soon to be popula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components are implemented in hardware for super low-overhead system servi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ps POSIX calls to OS components in HW (SWTI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a POSIX-compliant wrapper for computations in hardware (HWTI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Threads are Lightweight…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77240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76197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OSIX Thread API Classe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 directly with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ing, joining, attribut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te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for synchroniz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to “MUTually EXclude”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 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for communication between threads that use a common mut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for signaling several threads on a user-specified cond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0200" y="343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References/Source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to Parallel Computing (LLN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www.llnl.gov/computing/tutorials/parallel_comp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X Thread Programming (LLN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Grande"/>
              </a:rPr>
              <a:t>www.llnl.gov/computing/tutorials/pthreads/#WhyPthrea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What is parallel computing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el Computing (PC) i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ing with multiple, simultaneously-executing resour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realized through a computing platform that contains multiple CP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 times implemented a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ntralized Parallel Comput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CPUs with a local interconnect or b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ed Parallel Comput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computers networked togeth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Why Parallel Computing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save time (execution time)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 tasks can run concurrently instead of sequenti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solve larger problem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computational resources =  solve bigger problem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makes sen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problem domains are naturally paralleliz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- Control systems for automob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independent tasks that require little communic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ialization of tasks would cause the system to break dow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51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if the engine management system waited to execute while you tuned the radio?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Typical System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4038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ly, parallel computing systems are composed of the follow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computers with multiple CP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s of compu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ations of b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52680" y="1676520"/>
            <a:ext cx="314172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65760" y="1676520"/>
            <a:ext cx="2639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Computing Systems on Programmable Chip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ly multiprocessor systems were expens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processor was an atomic unit that had to be purcha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 structure and interconnect was not flexi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ft-core processors/interconnect can be u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rocessor systems can be “built” from a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y a single FPGA - but X processors can be instantia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 X is any number of processors that can fit on the target FP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Parallel Programming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one program a parallel computing syst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tionally, programs are defined seri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-by-step, one instruction per st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explicitly defined parallelis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programming involves separating independent sections of code into task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ks are capable of running concurren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nularity of tasks is user-defin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 - parallel portions of code can execute concurrently so overall execution time is reduc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How to describe parallelism?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-level (SIM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weight - programmer/compiler handle this, no OS support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= forAll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d/Task-level (MIM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irly lightweight - little OS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= thread_creat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-level (MIM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yweight - a lot of OS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 = fork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Serial Program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56200" y="3743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4038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 is decomposed into a series of tas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s can be fine-grained or coarse-grai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sks are made up of instruc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s must be executed sequentiall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tal execution time = ∑(Execution Time(Task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if tasks are independen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y don’t we execute them in paralle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91040" y="1676520"/>
            <a:ext cx="3828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1:45:16Z</dcterms:created>
  <dc:creator>Perry Alexander</dc:creator>
  <dc:description/>
  <dc:language>en-US</dc:language>
  <cp:lastModifiedBy>Perry Alexander</cp:lastModifiedBy>
  <dcterms:modified xsi:type="dcterms:W3CDTF">2006-10-24T09:07:42Z</dcterms:modified>
  <cp:revision>116</cp:revision>
  <dc:subject/>
  <dc:title>Parallel Programming</dc:title>
</cp:coreProperties>
</file>