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133-7E50-4EE1-A32F-83A8829B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6EF-9FF5-41B4-800B-3FEFB319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D2B6-B432-407B-9105-22267E84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447-FF98-424E-B1B2-CE3071FD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FB6-E3BA-4405-8565-48F52F8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B0E-768F-4048-B589-F7CD8405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470-3F6F-4B00-8405-611853F7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ECC-4EC5-4347-851C-3AA00C71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5DC-3D47-45DD-9747-A259ADB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A79-5D75-49D2-8D93-A97E070D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885-BEAA-45EF-BC1A-6CE9B0D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D66-3E3A-45B9-A6F2-A8F2734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7B38-6C43-44EA-9D59-F77F62DB0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214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36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4290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819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57600" y="4952880"/>
            <a:ext cx="12952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424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336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7080" y="4114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600" y="45720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043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336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4800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86200" y="4114440"/>
            <a:ext cx="12952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1981080"/>
            <a:ext cx="259092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5600" y="3179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743200"/>
            <a:ext cx="12952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4828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7432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86560" y="3179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3429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352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ll/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819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dul</cp:lastModifiedBy>
  <dcterms:modified xsi:type="dcterms:W3CDTF">2006-09-08T14:37:13Z</dcterms:modified>
  <cp:revision>2</cp:revision>
  <dc:subject/>
  <dc:title>PowerPoint Presentation</dc:title>
</cp:coreProperties>
</file>