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472-009D-4821-985F-BC13170D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508-25CE-4DBF-96DB-C6903AD3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AE1-2399-4836-A085-93476382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8BB-695B-4010-896F-78FFAC55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C4C-97EE-419C-9826-CBED5FA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57F-2494-483C-A63B-950173AD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4CB-5C77-4694-8418-5639E8B3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515-4A8B-47BB-B4E6-E2FCA50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7AB-5313-4FEC-8C11-5155362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A90-33A0-46F3-81EF-6CACDD1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B71-B530-40A6-82EC-37F3A7F7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18F-62BD-44CF-A8C2-5AABD4D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F368-128A-4F68-97DD-D10F4E14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214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36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4290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819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57600" y="4952880"/>
            <a:ext cx="12952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24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336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708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600" y="4572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043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336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4800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86200" y="4114440"/>
            <a:ext cx="12952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1981080"/>
            <a:ext cx="259092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5600" y="3179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/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dul</cp:lastModifiedBy>
  <dcterms:modified xsi:type="dcterms:W3CDTF">2006-09-08T14:37:13Z</dcterms:modified>
  <cp:revision>2</cp:revision>
  <dc:subject/>
  <dc:title>PowerPoint Presentation</dc:title>
</cp:coreProperties>
</file>