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23C-B82E-49D1-BFB5-27A702CD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714-50AD-409E-835E-68D3EB1F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D97-E1B3-4032-A166-7721CA22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60E-9786-4825-9C8C-84282552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C27-5EB6-4817-ACE3-CFB7753B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49B-2E35-4482-8AF1-E3EAEEBD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8A0-6226-45BF-AF90-AB64633D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91B-4ECC-4944-88DF-E66109AD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17E-4708-4F2A-93C8-19FFE31C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409-3AF1-4000-85B2-60D48F56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A4D-D3C6-4D60-BD87-B1004E6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D9E-05E6-41FB-8AF6-B1C8107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F77D99-9FD6-4F06-AC88-E521864253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590920"/>
            <a:ext cx="274320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8195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rmant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90920"/>
            <a:ext cx="14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28195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iv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85800"/>
            <a:ext cx="167616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990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74960" y="2590920"/>
            <a:ext cx="129564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590920"/>
            <a:ext cx="14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03560" y="2925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5080" y="4229280"/>
            <a:ext cx="147672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34000" y="431964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ally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graded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30430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83200" y="3108240"/>
            <a:ext cx="514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30680" y="2879640"/>
            <a:ext cx="409680" cy="43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26080" y="2995200"/>
            <a:ext cx="15408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07000" y="3083040"/>
            <a:ext cx="5076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86280" y="3083040"/>
            <a:ext cx="5112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7560" y="2965320"/>
            <a:ext cx="507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342080" y="1929600"/>
            <a:ext cx="500040" cy="35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71760" y="1976400"/>
            <a:ext cx="10152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1548000" y="1958040"/>
            <a:ext cx="619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1547280" y="2178000"/>
            <a:ext cx="633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1642680" y="2155680"/>
            <a:ext cx="633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71760" y="2209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562040" y="1674720"/>
            <a:ext cx="18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7964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61040" y="36003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ion &amp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078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5080" y="900000"/>
            <a:ext cx="147672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37240" y="912960"/>
            <a:ext cx="129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rma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5080" y="2619360"/>
            <a:ext cx="147672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34000" y="273996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7" idx="6"/>
            <a:endCxn id="50" idx="1"/>
          </p:cNvCxnSpPr>
          <p:nvPr/>
        </p:nvCxnSpPr>
        <p:spPr>
          <a:xfrm>
            <a:off x="5837400" y="3114720"/>
            <a:ext cx="608040" cy="160992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4" name=""/>
          <p:cNvCxnSpPr>
            <a:stCxn id="58" idx="6"/>
            <a:endCxn id="69" idx="1"/>
          </p:cNvCxnSpPr>
          <p:nvPr/>
        </p:nvCxnSpPr>
        <p:spPr>
          <a:xfrm flipV="1">
            <a:off x="5818320" y="1395360"/>
            <a:ext cx="627120" cy="1602360"/>
          </a:xfrm>
          <a:prstGeom prst="bentConnector3">
            <a:avLst>
              <a:gd name="adj1" fmla="val 5002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5" name=""/>
          <p:cNvCxnSpPr>
            <a:stCxn id="71" idx="2"/>
            <a:endCxn id="50" idx="0"/>
          </p:cNvCxnSpPr>
          <p:nvPr/>
        </p:nvCxnSpPr>
        <p:spPr>
          <a:xfrm rot="16200000">
            <a:off x="6873840" y="3919680"/>
            <a:ext cx="61956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5040360" y="2519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41" idx="3"/>
            <a:endCxn id="47" idx="1"/>
          </p:cNvCxnSpPr>
          <p:nvPr/>
        </p:nvCxnSpPr>
        <p:spPr>
          <a:xfrm>
            <a:off x="2971800" y="3085920"/>
            <a:ext cx="80352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"/>
          <p:cNvCxnSpPr>
            <a:stCxn id="57" idx="6"/>
            <a:endCxn id="71" idx="1"/>
          </p:cNvCxnSpPr>
          <p:nvPr/>
        </p:nvCxnSpPr>
        <p:spPr>
          <a:xfrm>
            <a:off x="5837400" y="3114720"/>
            <a:ext cx="60804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69" idx="3"/>
          </p:cNvCxnSpPr>
          <p:nvPr/>
        </p:nvCxnSpPr>
        <p:spPr>
          <a:xfrm>
            <a:off x="7921800" y="1395360"/>
            <a:ext cx="360" cy="171972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0" name=""/>
          <p:cNvCxnSpPr>
            <a:stCxn id="50" idx="3"/>
            <a:endCxn id="69" idx="3"/>
          </p:cNvCxnSpPr>
          <p:nvPr/>
        </p:nvCxnSpPr>
        <p:spPr>
          <a:xfrm>
            <a:off x="7921800" y="1395360"/>
            <a:ext cx="360" cy="332928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 rot="5400000">
            <a:off x="8349480" y="3031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521964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61040" y="206064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ion &amp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63" idx="6"/>
            <a:endCxn id="69" idx="1"/>
          </p:cNvCxnSpPr>
          <p:nvPr/>
        </p:nvCxnSpPr>
        <p:spPr>
          <a:xfrm flipH="1" flipV="1" rot="5400000">
            <a:off x="3650760" y="-581040"/>
            <a:ext cx="817920" cy="4770720"/>
          </a:xfrm>
          <a:prstGeom prst="bentConnector4">
            <a:avLst>
              <a:gd name="adj1" fmla="val -28357"/>
              <a:gd name="adj2" fmla="val 50267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5" name=""/>
          <p:cNvCxnSpPr>
            <a:stCxn id="71" idx="0"/>
            <a:endCxn id="69" idx="2"/>
          </p:cNvCxnSpPr>
          <p:nvPr/>
        </p:nvCxnSpPr>
        <p:spPr>
          <a:xfrm rot="16200000">
            <a:off x="6819120" y="2255040"/>
            <a:ext cx="72900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dul</dc:creator>
  <dc:description/>
  <dc:language>en-US</dc:language>
  <cp:lastModifiedBy>Abdul</cp:lastModifiedBy>
  <cp:revision>0</cp:revision>
  <dc:subject/>
  <dc:title>Slide 1</dc:title>
</cp:coreProperties>
</file>