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B8C-7B8C-4675-9EE0-6F523653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295-0620-451F-8268-4E9F2BCE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8C7-BDD0-43B0-B043-A775D1FB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7A9-13D3-4E5B-A3CE-AB9DA8FD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F70-B24C-4C47-B541-3AD67D45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1D0-9F66-4267-BE78-B60FE508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D86-8BD6-4CDD-ADE2-0C30D253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BB4-E7D1-4108-9ECD-7389940B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B15-9395-4EA4-863B-81164F96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40F-07BC-4C84-BBE7-4442CEC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F8D-94C7-4E30-8858-A5019C4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5AE-B8A8-4ABD-9005-EF70171F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45223A-CAE5-48CE-AF89-784CA0204F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590920"/>
            <a:ext cx="274320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8195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rmant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90920"/>
            <a:ext cx="14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28195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85800"/>
            <a:ext cx="1676160" cy="99072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990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74960" y="2590920"/>
            <a:ext cx="129564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590920"/>
            <a:ext cx="14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03560" y="29257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5080" y="4229280"/>
            <a:ext cx="147672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34000" y="431964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al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graded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30430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83200" y="3108240"/>
            <a:ext cx="51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30680" y="2879640"/>
            <a:ext cx="409680" cy="43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626080" y="2995200"/>
            <a:ext cx="15408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07000" y="3083040"/>
            <a:ext cx="5076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86280" y="3083040"/>
            <a:ext cx="5112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7560" y="2965320"/>
            <a:ext cx="5076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342080" y="1929600"/>
            <a:ext cx="500040" cy="35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71760" y="1976400"/>
            <a:ext cx="10152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1548000" y="1958040"/>
            <a:ext cx="619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1547280" y="2178000"/>
            <a:ext cx="633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1642680" y="2155680"/>
            <a:ext cx="633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71760" y="2209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562040" y="1674720"/>
            <a:ext cx="180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7964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61040" y="36003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ion &amp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078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5080" y="900000"/>
            <a:ext cx="1476720" cy="99072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37240" y="912960"/>
            <a:ext cx="129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rma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5080" y="2619360"/>
            <a:ext cx="1476720" cy="99072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34000" y="273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7" idx="6"/>
            <a:endCxn id="50" idx="1"/>
          </p:cNvCxnSpPr>
          <p:nvPr/>
        </p:nvCxnSpPr>
        <p:spPr>
          <a:xfrm>
            <a:off x="5837400" y="3114720"/>
            <a:ext cx="608040" cy="160992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4" name=""/>
          <p:cNvCxnSpPr>
            <a:stCxn id="58" idx="6"/>
            <a:endCxn id="69" idx="1"/>
          </p:cNvCxnSpPr>
          <p:nvPr/>
        </p:nvCxnSpPr>
        <p:spPr>
          <a:xfrm flipV="1">
            <a:off x="5818320" y="1395360"/>
            <a:ext cx="627120" cy="1602360"/>
          </a:xfrm>
          <a:prstGeom prst="bentConnector3">
            <a:avLst>
              <a:gd name="adj1" fmla="val 50028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5" name=""/>
          <p:cNvCxnSpPr>
            <a:stCxn id="71" idx="2"/>
            <a:endCxn id="50" idx="0"/>
          </p:cNvCxnSpPr>
          <p:nvPr/>
        </p:nvCxnSpPr>
        <p:spPr>
          <a:xfrm rot="16200000">
            <a:off x="6873840" y="3919680"/>
            <a:ext cx="61956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5040360" y="2519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41" idx="3"/>
            <a:endCxn id="47" idx="1"/>
          </p:cNvCxnSpPr>
          <p:nvPr/>
        </p:nvCxnSpPr>
        <p:spPr>
          <a:xfrm>
            <a:off x="2971800" y="3085920"/>
            <a:ext cx="80352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8" name=""/>
          <p:cNvCxnSpPr>
            <a:stCxn id="57" idx="6"/>
            <a:endCxn id="71" idx="1"/>
          </p:cNvCxnSpPr>
          <p:nvPr/>
        </p:nvCxnSpPr>
        <p:spPr>
          <a:xfrm>
            <a:off x="5837400" y="3114720"/>
            <a:ext cx="60804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69" idx="3"/>
          </p:cNvCxnSpPr>
          <p:nvPr/>
        </p:nvCxnSpPr>
        <p:spPr>
          <a:xfrm>
            <a:off x="7921800" y="1395360"/>
            <a:ext cx="360" cy="171972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0" name=""/>
          <p:cNvCxnSpPr>
            <a:stCxn id="50" idx="3"/>
            <a:endCxn id="69" idx="3"/>
          </p:cNvCxnSpPr>
          <p:nvPr/>
        </p:nvCxnSpPr>
        <p:spPr>
          <a:xfrm>
            <a:off x="7921800" y="1395360"/>
            <a:ext cx="360" cy="332928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 rot="5400000">
            <a:off x="8349480" y="3031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521964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61040" y="206064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ion &amp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63" idx="6"/>
            <a:endCxn id="69" idx="1"/>
          </p:cNvCxnSpPr>
          <p:nvPr/>
        </p:nvCxnSpPr>
        <p:spPr>
          <a:xfrm flipH="1" flipV="1" rot="5400000">
            <a:off x="3650760" y="-581040"/>
            <a:ext cx="817920" cy="4770720"/>
          </a:xfrm>
          <a:prstGeom prst="bentConnector4">
            <a:avLst>
              <a:gd name="adj1" fmla="val -28357"/>
              <a:gd name="adj2" fmla="val 50267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5" name=""/>
          <p:cNvCxnSpPr>
            <a:stCxn id="71" idx="0"/>
            <a:endCxn id="69" idx="2"/>
          </p:cNvCxnSpPr>
          <p:nvPr/>
        </p:nvCxnSpPr>
        <p:spPr>
          <a:xfrm rot="16200000">
            <a:off x="6819120" y="2255040"/>
            <a:ext cx="72900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dul</dc:creator>
  <dc:description/>
  <dc:language>en-US</dc:language>
  <cp:lastModifiedBy>Abdul</cp:lastModifiedBy>
  <cp:revision>0</cp:revision>
  <dc:subject/>
  <dc:title>Slide 1</dc:title>
</cp:coreProperties>
</file>