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0B11-AAE5-40A0-8E18-6DFD0447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92F3-DB66-4353-BF9E-7B155DAC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7242-B5DD-41F5-BCF0-046086160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64BB-B549-437B-9DD1-CAE277B1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5EF0-2E84-49F6-82AA-72CE67FF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E7E2-B19D-4B4E-9208-71E7AB16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1CB8-A860-4C1D-81A0-15D53EE0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696C-E2D8-430C-A637-26780A04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6A7D-D7E8-4AF6-8CBD-F47E4E05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FFBD-BBD7-44F5-866B-93DB2D05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F939-DCCE-480E-8D29-7701B7BC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441C-8510-40FC-B939-4AAA0F5F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BF1A-2409-4B91-BC8F-30A2C9ED4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590920"/>
            <a:ext cx="2743200" cy="990360"/>
          </a:xfrm>
          <a:prstGeom prst="rect">
            <a:avLst/>
          </a:prstGeom>
          <a:solidFill>
            <a:srgbClr val="57d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281952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rmant 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90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2819520"/>
            <a:ext cx="8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e 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685800"/>
            <a:ext cx="1676160" cy="990720"/>
          </a:xfrm>
          <a:prstGeom prst="rect">
            <a:avLst/>
          </a:prstGeom>
          <a:solidFill>
            <a:srgbClr val="57d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9907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95680" y="2590920"/>
            <a:ext cx="1295640" cy="990360"/>
          </a:xfrm>
          <a:prstGeom prst="rect">
            <a:avLst/>
          </a:prstGeom>
          <a:solidFill>
            <a:srgbClr val="57d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590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29257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2590920"/>
            <a:ext cx="1295280" cy="990360"/>
          </a:xfrm>
          <a:prstGeom prst="rect">
            <a:avLst/>
          </a:prstGeom>
          <a:solidFill>
            <a:srgbClr val="57d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43800" y="29257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60640" y="3043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30481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810400" y="2819520"/>
            <a:ext cx="1504800" cy="438120"/>
            <a:chOff x="5810400" y="2819520"/>
            <a:chExt cx="1504800" cy="438120"/>
          </a:xfrm>
        </p:grpSpPr>
        <p:sp>
          <p:nvSpPr>
            <p:cNvPr id="55" name=""/>
            <p:cNvSpPr/>
            <p:nvPr/>
          </p:nvSpPr>
          <p:spPr>
            <a:xfrm>
              <a:off x="7010280" y="30481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810400" y="3048120"/>
              <a:ext cx="51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572160" y="3048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6257880" y="2819520"/>
              <a:ext cx="409680" cy="438120"/>
              <a:chOff x="6257880" y="2819520"/>
              <a:chExt cx="409680" cy="438120"/>
            </a:xfrm>
          </p:grpSpPr>
          <p:sp>
            <p:nvSpPr>
              <p:cNvPr id="59" name=""/>
              <p:cNvSpPr/>
              <p:nvPr/>
            </p:nvSpPr>
            <p:spPr>
              <a:xfrm>
                <a:off x="6257880" y="2819520"/>
                <a:ext cx="409680" cy="438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V="1">
                <a:off x="6353640" y="2936880"/>
                <a:ext cx="15336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34560" y="3022920"/>
                <a:ext cx="50760" cy="6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513840" y="3022920"/>
                <a:ext cx="51120" cy="6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494760" y="2905560"/>
                <a:ext cx="51120" cy="6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"/>
          <p:cNvGrpSpPr/>
          <p:nvPr/>
        </p:nvGrpSpPr>
        <p:grpSpPr>
          <a:xfrm>
            <a:off x="1371240" y="1905120"/>
            <a:ext cx="438120" cy="409320"/>
            <a:chOff x="1371240" y="1905120"/>
            <a:chExt cx="438120" cy="409320"/>
          </a:xfrm>
        </p:grpSpPr>
        <p:sp>
          <p:nvSpPr>
            <p:cNvPr id="65" name=""/>
            <p:cNvSpPr/>
            <p:nvPr/>
          </p:nvSpPr>
          <p:spPr>
            <a:xfrm rot="5400000">
              <a:off x="1385640" y="1890720"/>
              <a:ext cx="409320" cy="43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66720" y="2000880"/>
              <a:ext cx="125280" cy="15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5400000">
              <a:off x="1549080" y="1975680"/>
              <a:ext cx="5076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5400000">
              <a:off x="1549080" y="2154960"/>
              <a:ext cx="5112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1666440" y="2135880"/>
              <a:ext cx="5112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1571760" y="2209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56204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33600" y="200016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3200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30780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6:58:21Z</dcterms:created>
  <dc:creator>Abdul</dc:creator>
  <dc:description/>
  <dc:language>en-US</dc:language>
  <cp:lastModifiedBy>Abdul</cp:lastModifiedBy>
  <dcterms:modified xsi:type="dcterms:W3CDTF">2006-09-15T16:58:38Z</dcterms:modified>
  <cp:revision>1</cp:revision>
  <dc:subject/>
  <dc:title>Slide 1</dc:title>
</cp:coreProperties>
</file>