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C3D-1CC1-4416-B45A-2D14CABB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A8B-C30F-4293-A96F-D6F0D7C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D7-3DD1-41D0-9521-C96CA227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F8C-97C1-4E7D-971A-2CCB622E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844-DB9E-4A16-83C7-01C7612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075-4201-42CA-AA9C-B3477A3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DCB-4364-4AD8-9191-0667755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D14-2D5B-4CEB-BEBD-25F677B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55A-5DC1-438E-AF12-6062AC6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7C3-6149-4875-8AE3-EBDC6FA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F11-EA18-4A16-B486-F6164F5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67D-A3A0-4669-B6EC-DDD9949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9EB-EB73-4043-AE2A-EEE7CB8A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90920"/>
            <a:ext cx="274320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8195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rmant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8195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85800"/>
            <a:ext cx="167616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990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590920"/>
            <a:ext cx="129564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925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2590920"/>
            <a:ext cx="129528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2925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3043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10400" y="2819520"/>
            <a:ext cx="1504800" cy="438120"/>
            <a:chOff x="5810400" y="2819520"/>
            <a:chExt cx="1504800" cy="438120"/>
          </a:xfrm>
        </p:grpSpPr>
        <p:sp>
          <p:nvSpPr>
            <p:cNvPr id="55" name=""/>
            <p:cNvSpPr/>
            <p:nvPr/>
          </p:nvSpPr>
          <p:spPr>
            <a:xfrm>
              <a:off x="701028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10400" y="30481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7216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257880" y="2819520"/>
              <a:ext cx="409680" cy="438120"/>
              <a:chOff x="6257880" y="2819520"/>
              <a:chExt cx="409680" cy="438120"/>
            </a:xfrm>
          </p:grpSpPr>
          <p:sp>
            <p:nvSpPr>
              <p:cNvPr id="59" name=""/>
              <p:cNvSpPr/>
              <p:nvPr/>
            </p:nvSpPr>
            <p:spPr>
              <a:xfrm>
                <a:off x="6257880" y="2819520"/>
                <a:ext cx="409680" cy="43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353640" y="2936880"/>
                <a:ext cx="15336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34560" y="3022920"/>
                <a:ext cx="5076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513840" y="3022920"/>
                <a:ext cx="5112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94760" y="2905560"/>
                <a:ext cx="5112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371240" y="1905120"/>
            <a:ext cx="438120" cy="409320"/>
            <a:chOff x="1371240" y="1905120"/>
            <a:chExt cx="438120" cy="409320"/>
          </a:xfrm>
        </p:grpSpPr>
        <p:sp>
          <p:nvSpPr>
            <p:cNvPr id="65" name=""/>
            <p:cNvSpPr/>
            <p:nvPr/>
          </p:nvSpPr>
          <p:spPr>
            <a:xfrm rot="5400000">
              <a:off x="1385640" y="1890720"/>
              <a:ext cx="409320" cy="43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66720" y="2000880"/>
              <a:ext cx="12528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1549080" y="1975680"/>
              <a:ext cx="5076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549080" y="2154960"/>
              <a:ext cx="5112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1666440" y="2135880"/>
              <a:ext cx="5112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57176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5620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33600" y="20001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78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6:58:21Z</dcterms:created>
  <dc:creator>Abdul</dc:creator>
  <dc:description/>
  <dc:language>en-US</dc:language>
  <cp:lastModifiedBy>Abdul</cp:lastModifiedBy>
  <dcterms:modified xsi:type="dcterms:W3CDTF">2006-09-15T16:58:38Z</dcterms:modified>
  <cp:revision>1</cp:revision>
  <dc:subject/>
  <dc:title>Slide 1</dc:title>
</cp:coreProperties>
</file>